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20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59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20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59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17476-BCB5-4426-913F-5AA31D0471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2A2E1-A952-4FC7-AD5A-5528E9EC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1C071-A3A4-4A3A-9870-41718D67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40978-ED68-483D-9B8E-FF7631D9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52EA9-DA19-4A56-A31F-EACA9ACB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53CBF-39E0-4486-9113-E9A61AEA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E3178-7EED-4ED0-AD55-97B3C93C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9B052-9A8E-44D4-BD0F-81F7A04A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1198D-9795-4D2C-85A5-F197CDBB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C390-B493-4CC1-BE28-21576430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41E00-3E9F-494C-B4DC-99177555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920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59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920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59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CA583-5E45-4F66-8929-1A1236E5EE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TÜ 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200</a:t>
            </a:r>
            <a:r>
              <a:rPr b="1" lang="en-US" sz="1000" spc="-1" strike="noStrike">
                <a:solidFill>
                  <a:srgbClr val="6666ff"/>
                </a:solidFill>
                <a:latin typeface="Arial"/>
              </a:rPr>
              <a:t>5</a:t>
            </a: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    T.Tammet    Programmeerimine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: 1</a:t>
            </a:r>
            <a:r>
              <a:rPr b="1" lang="en-US" sz="1000" spc="-1" strike="noStrike">
                <a:solidFill>
                  <a:srgbClr val="6666ff"/>
                </a:solidFill>
                <a:latin typeface="Arial"/>
              </a:rPr>
              <a:t>2 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loeng  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F145B663-FEBE-4B42-83CC-89D207BA50CB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324480"/>
            <a:ext cx="777240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6B99-257D-45AF-A975-A26390BF2B8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põhi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I001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8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Kuidas sellist seisude puud kasutada?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eldame lihtsalt, e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6776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asin tahab teha käiku, mis annab kõige suurema headuse numbriga seis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6776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astane tahab teha käiku, mis annab kõige väiksema headuse numbriga seis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eega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6776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gast seisust valib masin käigu, mis on maksimum-headusega (masina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6776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gast seisust valib vastane käigu, mis on miinimum-headusega (masina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de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67760">
              <a:lnSpc>
                <a:spcPct val="12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aatame käikude puud sügavuseni N (näiteks N=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67760">
              <a:lnSpc>
                <a:spcPct val="12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õige alumistel seisudel arvutame lihtsalt headuse vä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67760">
              <a:lnSpc>
                <a:spcPct val="12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eejärel “tõstame” headuse numbreid ülespoo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30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inimax algoritm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800280" indent="0"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35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153640" cy="4267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7320" y="546264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ata lisaks linki ja dem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ocf.berkeley.edu/~yosenl/extras/alphabeta/alphabeta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Kui heaks programmi saab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Mida sügavamat puud masin läbi jõuab vaadata, seda täpsemini ta käiku oskab valid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Puu läheb kiiresti väga suureks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Males ca 30 käiku ühes seisu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Esimesel tasemel käike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Teisel tasemel käike 30*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Kolmandal tasemel käike 30*30*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N-ndal tasemel käike 30 astmes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Viiekümnendal  tasemel oleks käike ca 30 astmes 50. See on rohkem, kui elementaarosakesi universumis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142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Umbes nii: teadmised ja kiirus ja mängu headus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800280" indent="0"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47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9" name="perfcurves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381880" cy="4948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98080" y="4876920"/>
            <a:ext cx="10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cc0000"/>
                </a:solidFill>
                <a:latin typeface="Times New Roman"/>
              </a:rPr>
              <a:t>Sei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cc0000"/>
                </a:solidFill>
                <a:latin typeface="Times New Roman"/>
              </a:rPr>
              <a:t>hind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cc0000"/>
                </a:solidFill>
                <a:latin typeface="Times New Roman"/>
              </a:rPr>
              <a:t>hea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6095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cc0000"/>
                </a:solidFill>
                <a:latin typeface="Times New Roman"/>
              </a:rPr>
              <a:t>Kui suure puu jõuab läbi va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Kuidas programmi parandada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i ole ühte head lahendust. On palju erinevaid nõks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Näitek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eeme seisu hindaja paremaks (programmi “targemaks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ga siis läheb ta aeglasemaks 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eega jõuame vähem käike läbi vaa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namik nõkse on seotud käikude puu vähendamisega: ei ole vaja kogu puud läbi vaadat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155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Laiuti vs sügavuti ots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aks võimalus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Otsime puu läbi kiht-kih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Otsime puu läbi sügavuti, minnes algul vasakul maksimaalse sügavus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elistatakse sügavuti otsingut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älu vaja palju vä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uud eelised 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160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3276720" cy="1714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3276720" cy="1714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72200" y="2895480"/>
            <a:ext cx="2362320" cy="457200"/>
          </a:xfrm>
          <a:prstGeom prst="flowChartAlternateProcess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3505320"/>
            <a:ext cx="3276720" cy="609480"/>
          </a:xfrm>
          <a:prstGeom prst="flowChartAlternateProcess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324120" y="4724280"/>
            <a:ext cx="685800" cy="381240"/>
          </a:xfrm>
          <a:prstGeom prst="line">
            <a:avLst/>
          </a:prstGeom>
          <a:ln w="2556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91320" y="5334120"/>
            <a:ext cx="457200" cy="685800"/>
          </a:xfrm>
          <a:prstGeom prst="line">
            <a:avLst/>
          </a:prstGeom>
          <a:ln w="2556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400800" y="5562720"/>
            <a:ext cx="76320" cy="533160"/>
          </a:xfrm>
          <a:prstGeom prst="line">
            <a:avLst/>
          </a:prstGeom>
          <a:ln w="2556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1523880"/>
            <a:ext cx="1066680" cy="762120"/>
          </a:xfrm>
          <a:prstGeom prst="line">
            <a:avLst/>
          </a:prstGeom>
          <a:ln cap="rnd" w="25560">
            <a:solidFill>
              <a:srgbClr val="00ffff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2362320"/>
            <a:ext cx="2210040" cy="2209680"/>
          </a:xfrm>
          <a:prstGeom prst="line">
            <a:avLst/>
          </a:prstGeom>
          <a:ln cap="rnd" w="25560">
            <a:solidFill>
              <a:srgbClr val="00ffff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Koodinäiteid: rekursiivne minimax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int minimax(position p, int d)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ruct move list[MAXMOVES]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int i,n,bestvalue,valu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if(checkwin(p)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if (p.color==WHITE) return -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else return 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if(d==0)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return evaluation(p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if(position.color==WHITE) bestvalue=-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else bestvalue=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n=makemovelist(p,list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if(n==0) return handlenomove(p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for(i=0;i&lt;n;i++)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domove(list[i],&amp;p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value=minimax(p,d-1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undomove(list[i],&amp;p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if(position.color==WHIT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bestvalue=max(value,bestvalue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bestvalue=min(value,bestvalue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return bestvalu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7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Üks esimesi universaalseid meetodeid: alpha-beta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800280" indent="0"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7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81" name=""/>
          <p:cNvGraphicFramePr/>
          <p:nvPr/>
        </p:nvGraphicFramePr>
        <p:xfrm>
          <a:off x="838080" y="2362320"/>
          <a:ext cx="830592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83059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Koodinäiteid: rekursiivsed negamax ja alpha-be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210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nt NegaMax (pos, depth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f (depth == 0) return Evaluate(po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best = -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ucc = Successors(po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hile (not Empty(succ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os = RemoveOne(succ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alue = -NegaMax(pos, depth-1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f (value &gt; best) best = valu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b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nt AlphaBeta (pos, depth, alpha, bet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f (depth == 0) return Evaluate(po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best = -INFINIT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ucc = Successors(po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hile (not Empty(succ) </a:t>
            </a:r>
            <a:r>
              <a:rPr b="0" lang="tr-TR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&amp;&amp; best &lt; beta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os = RemoveOne(succ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tr-TR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if (best &gt; alpha) alpha = b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tr-TR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value = -AlphaBeta(pos, depth-1, -beta, -alpha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f (value &gt; best) best = valu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b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86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t lisaks demo!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ocf.berkeley.edu/~yosenl/extras/alphabeta/alphabeta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191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oengu ülevaa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ängupuud ja mängude programmeerim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issejuhatus viimasesse laboratoorsesse tööss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s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uppu rit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89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Soteerimise nõks otsingu kiirendamisek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Sorteerida variandid seisust X enne otsingut ära: alustada tõenäoliselt paremate käikude proovimiseg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uurendab tohutult alpha-beta efekt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uidas sorteeri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Iteratiivne süvenemine. Teem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lgul täisotsingu sügavuseni 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iis uue täisotsingu sügavuseni 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iis uue täisotsingu sügavuseni 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.... jne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ga kord kasutame eelmise otsingu tulemust sorteerimisek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196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uud standardnõksu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Killer move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”: jätame otsides meelde eriti head käigu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ii masinal kui vasta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roovime kõigepealt varasemast meelde jäetud eriti häid kä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3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Quiescence search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”: mõnda haru otsitakse sügavamal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bastabiilses seisus otsime sügavam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tabiilses seisus otsime vähem sügav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otsime lõpuni kõik vahetused ja löö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Null-Move</a:t>
            </a: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: mis siis, kui vastane saaks kaks käiku järjest?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4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roovime nii, et vastane saab kaks käiku järj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4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ui on meile OK tulemus, siis see on positiivne fa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4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ui on meile halb tulemus, jätame meelde “killer mo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201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Kuidas mõjub?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Mida sügavam puu, seda suurem mõju. Näitek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Käikude puu sügavus vi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iniMax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hindab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41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4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se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Alpha-Beta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: hindab        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0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209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se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A-B + “killer moves”:          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530,587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seisu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Käikude   puu sügavus seitse: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iniMax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hindab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ca       8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000,0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se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Alpha-Beta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: hindab        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 16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66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568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se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A-B + “killer moves”:          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455,262 seisu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206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Täiendav idee: lõppmängude andmebaasid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Idee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ehitame hiiglasliku lõppmängu-seisude andmebaa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igal lõppmängu-seisul on andmebaasis öeldud täpne “headus” (võit, viik, kao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ehitamiseks: kõigepealt ühe nupuga lõppmängud, siis kahe nupuga lõppmängud, siis kolme nupuga lõppmängud j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Kõigepealt tehti seda 8x8 inglise kabes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Chinook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nathan Schaeffer, Robert Blak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ul Lu and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artin Bryant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versity of Alberta: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cs.ualberta.ca/~chinook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Kõigi seisude andmebaas, kus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või vähem nup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Kokku ü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4,778,882,769,2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se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Sügavad otsingud jõuavad tihti lõppmängu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andmebaasini, kus on juba sees täp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seisuhinna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Otsing seega mõlemast suunast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211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629400" y="3200400"/>
            <a:ext cx="2286000" cy="31431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419720" y="3352680"/>
            <a:ext cx="2057400" cy="457200"/>
          </a:xfrm>
          <a:prstGeom prst="line">
            <a:avLst/>
          </a:prstGeom>
          <a:ln cap="rnd" w="25560">
            <a:solidFill>
              <a:srgbClr val="00ffff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Praegune seis mängudega</a:t>
            </a:r>
            <a:br>
              <a:rPr sz="16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ahendatud: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Neli nuppu ritta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, Qubic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Nine Man’s Morris, Go-Mo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Awa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ugevalt üle inimmängijate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Kabe 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(8x8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Renju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(viis nuppu ritta)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Othello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(Reversi)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, Scrab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le, Backgam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aailmameistri tasemel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Male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Rahvusvaheline kabe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(10x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ippmängija tasemel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Go (9x9),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Hiina male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Bridzh, Pok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matööri tasemel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Go (19x1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t ka: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http://en.wikipedia.org/wiki/Solved_board_ga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218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2895480" cy="1909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324160" cy="2390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553080" y="2971800"/>
            <a:ext cx="2127240" cy="2133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6819840" y="4295880"/>
            <a:ext cx="2324160" cy="2257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iis nuppu rit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9907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in a r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htversioon: Go-moku (lahendatu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rukamaid versioone: Renju, Pente,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t lisak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.wikipedia.org/wiki/Gomo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users.erols.com/msmammel/penteb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eb.archive.org/web/20040607185428/www.cs.vu.nl/~victor/thesi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! Lahendus peab baseeruma järgmisele koodil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ttp://www.leepoint.net/notes-java/45examples/55games/five/five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227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õtlemis-võistlusmängude programmeerimin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Mis on ülesann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eil on lauamäng (male, kabe vms), kus on kaks mängija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umbki tahab või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eeme arvutiprogrammi, mis võtab seisu ette ja püüab leida võimalikult hea käigu sellest seisu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94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Veidi ajalugu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eise maailmasõja paiku: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lan Turing tegi valmis maleprogrammi, aga tal ei olnud arvutit selle täitmiseks. Turing täitis programmi ise: paberi ja pliiatsi ab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ängis paar partiid: iga partii võttis hirmus kaua ae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1940-1990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rogrammid läksid aeglaselt paremaks, arvutid kiiremaks, aga tipp-inim-mängijad olid programmidest kõvasti parem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1990-2000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rogrammid hakkasid tipp-inim-mängijaid järjepanu võit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CHINOOK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– 1994, 8x8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nglise kabe maailmame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Deep Blue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– 1997,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õitis Garry Kasparovit malemats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LOGISTELLO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– 1997,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õitis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Othello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Reversi) maailmameistrit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Takeshi Murakami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Praegune se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itmete mängude (Go, Bridzh, ...) jaoks on inim-mängijad endiselt programmidest hulga pare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99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Kuidas maleprogrammi teha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eeme kõigepealt programmi, m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oeb sei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eeb seisu järgi mällu tabeli kõigist võimalikest käikudest selles sei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See ei olegi nii väga keeruline pro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ales keeruli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abes liht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Othello (reversi) veel liht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iis nuppu ritta: väga liht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Nüüd võib programm tabelist juhusliku käigu valid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Ja juba mängibki!   Kuigi kehvasti .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104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Kuidas programmi veidi paremaks teha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eeme eraldi väikese programmi, m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õtab seisu et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Ütleb umbes, kui hea seis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eisu “headus” on number, mille meie programm arvu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uidas öelda “kui hea”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ahel lihtne: kaotus / võit/ ei kumb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umbrid:          1         -1    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eerulisem: “harilik maleseis”.  Kumbalgi pole võitu ega kaot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109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Seisu hindamin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eerulisem olukord: harilik malesei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Materja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oeme kokku meie ja vastase nup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ipp annab 10 punkti, vanker 6, 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Positsio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oeme kokku eelviimasel real etturid masinal/inime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oeme kokku tsentriväljadel olevad etturid masinal/inime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oeme kokku, mitmele tsentriväljale masin/inimene tuld ann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aatame üle kuninga kaitse tugev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.... jne 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okku saame seisu headuse numbr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asina materjal – inimese materjal + masina positsioon – inimese positsi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114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is edasi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Nüüd on meil kõigi käikude tabel, iga käigu juures arvutame tekkiva seisu headuse numbr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Valime kõige parema tulemuse (maksimumi numbritest!) andva käigu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Programm hakkab veidi paremini mängima, ag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kka mängib väga kehvast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iks? Sest meie seisu headuse hindamise programm on nig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uidas headuse hindamist parand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Loomulikult tuleks vaadata, mis käike vastane võib peale meie käike teha! Ja kuidas meie võime vastata. J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838080" y="380880"/>
            <a:ext cx="7769160" cy="303120"/>
            <a:chOff x="838080" y="380880"/>
            <a:chExt cx="7769160" cy="303120"/>
          </a:xfrm>
        </p:grpSpPr>
        <p:sp>
          <p:nvSpPr>
            <p:cNvPr id="119" name=""/>
            <p:cNvSpPr/>
            <p:nvPr/>
          </p:nvSpPr>
          <p:spPr>
            <a:xfrm>
              <a:off x="838080" y="68400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860724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Võimalike käikude puu trips-traps-trulli näit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2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858000" cy="5573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dcterms:modified xsi:type="dcterms:W3CDTF">2005-11-14T07:41:19Z</dcterms:modified>
  <cp:revision>268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ttu.ee/it/vorgutarkvara/wai4040/</vt:lpwstr>
  </property>
  <property fmtid="{D5CDD505-2E9C-101B-9397-08002B2CF9AE}" pid="9" name="LinkColor">
    <vt:r8>16711782</vt:r8>
  </property>
  <property fmtid="{D5CDD505-2E9C-101B-9397-08002B2CF9AE}" pid="10" name="MailAddress">
    <vt:lpwstr>tammet@cc.ttu.ee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ty\javakursu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